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B74F-2988-4BBC-96DA-E816D22943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622F-2995-406A-A3CA-5C9911119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18C0-B661-4024-B94E-008E7D71D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4BD0-2EEA-47F4-B0A1-2051AE81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9CB4-EB3F-4496-9EFA-6E37142B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742-B154-4254-8BB1-08CAD2C4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CC12-60B6-43E6-BD3D-AC5A3DE5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71468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01904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BAF-DCA4-41BF-A487-C93EA5D7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5B70-DCC1-48AE-8DC8-BF5D3C0E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B85-10E2-47DC-A412-A5EC7E52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00200" y="142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883-DE6A-4E98-9BE8-CB244C6CE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1ADF-94F0-4612-BE07-AEB3B856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904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115-1FF8-465D-9F3D-E270635B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468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904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2D9F-D8EA-484D-B4A7-1701FA05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37080"/>
            <a:ext cx="289584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37080"/>
            <a:ext cx="2133720" cy="33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AC7A-39AC-47E6-930E-0CFA37D90FF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5155920"/>
            <a:ext cx="7772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Proiect na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ional Patrula de </a:t>
            </a:r>
            <a:r>
              <a:rPr b="1" lang="ro-RO" sz="1800" spc="-1" strike="noStrike">
                <a:solidFill>
                  <a:srgbClr val="008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eciclare</a:t>
            </a:r>
            <a:endParaRPr b="0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3"/>
          <p:cNvSpPr/>
          <p:nvPr/>
        </p:nvSpPr>
        <p:spPr>
          <a:xfrm>
            <a:off x="539640" y="1197000"/>
            <a:ext cx="828036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ctombrie -Noie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mplasarea în fiec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c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a câte unui kit de colectare DEEE și distrib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mater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o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inform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embrie 2012  - Iunie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colect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organizare proiecte individu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ioada de raportar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 evaluare și 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cheierea pilotului cu premierea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â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g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ri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aterial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13" name="Picture 5" descr="Z:\Lansari &amp; Events\Campanii\Zona Eco\Visuals + fisiere de productie\Concept Zona Eco.jpg"/>
          <p:cNvPicPr/>
          <p:nvPr/>
        </p:nvPicPr>
        <p:blipFill>
          <a:blip r:embed="rId1"/>
          <a:stretch/>
        </p:blipFill>
        <p:spPr>
          <a:xfrm>
            <a:off x="380880" y="1155600"/>
            <a:ext cx="3733920" cy="5092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Flyer Bateriada_Page_1.jpg"/>
          <p:cNvPicPr/>
          <p:nvPr/>
        </p:nvPicPr>
        <p:blipFill>
          <a:blip r:embed="rId2"/>
          <a:stretch/>
        </p:blipFill>
        <p:spPr>
          <a:xfrm rot="21270600">
            <a:off x="3929040" y="2701800"/>
            <a:ext cx="1501920" cy="3183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Flyer colectare becuri curbe_Page_1.jpg"/>
          <p:cNvPicPr/>
          <p:nvPr/>
        </p:nvPicPr>
        <p:blipFill>
          <a:blip r:embed="rId3"/>
          <a:stretch/>
        </p:blipFill>
        <p:spPr>
          <a:xfrm rot="21169200">
            <a:off x="5552640" y="2572920"/>
            <a:ext cx="1474920" cy="3125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Flyer DEEE Final curbe_Page_1.jpg"/>
          <p:cNvPicPr/>
          <p:nvPr/>
        </p:nvPicPr>
        <p:blipFill>
          <a:blip r:embed="rId4"/>
          <a:stretch/>
        </p:blipFill>
        <p:spPr>
          <a:xfrm rot="274800">
            <a:off x="7070400" y="2619000"/>
            <a:ext cx="147312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7"/>
          <p:cNvSpPr/>
          <p:nvPr/>
        </p:nvSpPr>
        <p:spPr>
          <a:xfrm>
            <a:off x="4067280" y="1271520"/>
            <a:ext cx="46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kit de colect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pliant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informative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9" descr="Scoala_Page_02.jpg"/>
          <p:cNvPicPr/>
          <p:nvPr/>
        </p:nvPicPr>
        <p:blipFill>
          <a:blip r:embed="rId1"/>
          <a:stretch/>
        </p:blipFill>
        <p:spPr>
          <a:xfrm>
            <a:off x="6948360" y="3352680"/>
            <a:ext cx="2189160" cy="29718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3492360" y="1571760"/>
            <a:ext cx="36720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gradiniţ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pe tipologia unei cărţi de colorat şi poez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şcoala general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– tip caiet de curs, care va include informaţii şi pagini libere pentru notiţ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Broşura pentru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lice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– tip jurnal, ce va conţine informaţii şi sfaturi utile despre colectarea DE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Scoala_Page_01.jpg"/>
          <p:cNvPicPr/>
          <p:nvPr/>
        </p:nvPicPr>
        <p:blipFill>
          <a:blip r:embed="rId2"/>
          <a:stretch/>
        </p:blipFill>
        <p:spPr>
          <a:xfrm>
            <a:off x="468360" y="1447920"/>
            <a:ext cx="3424320" cy="464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Broșuri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3"/>
          <p:cNvSpPr/>
          <p:nvPr/>
        </p:nvSpPr>
        <p:spPr>
          <a:xfrm>
            <a:off x="684360" y="1557360"/>
            <a:ext cx="770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Postere, insign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24" name="Picture 2" descr="C:\Gabi\RoRec\Proiecte\Patrula de reciclare\Ghid de lucru\Anexe\8_13_Materiale promo\12_Poster Patrula 2011-2012.JPG"/>
          <p:cNvPicPr/>
          <p:nvPr/>
        </p:nvPicPr>
        <p:blipFill>
          <a:blip r:embed="rId1"/>
          <a:stretch/>
        </p:blipFill>
        <p:spPr>
          <a:xfrm>
            <a:off x="755640" y="1341360"/>
            <a:ext cx="3456000" cy="4608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C:\Gabi\RoRec\Proiecte\Patrula de reciclare\Ghid de lucru\Anexe\8_13_Materiale promo\Insigna.jpg"/>
          <p:cNvPicPr/>
          <p:nvPr/>
        </p:nvPicPr>
        <p:blipFill>
          <a:blip r:embed="rId2"/>
          <a:stretch/>
        </p:blipFill>
        <p:spPr>
          <a:xfrm>
            <a:off x="4511520" y="1916280"/>
            <a:ext cx="39481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684360" y="1125360"/>
            <a:ext cx="7704000" cy="49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Colectare și 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tivităţi derulate în perioada proiect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atea de colect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tivităţi constante de colectare DEEE la mini punctul de colect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d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iecare şco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titatea minimă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kilogram DEEE/elev membru în Patrula de recicl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tivităţi propr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movarea activităţilor de colectare DEEE în proximitatea unităţii de învăţământ, în familie, prietenilor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tc c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form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opulaţie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sup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fecte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nocive ale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 DE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entru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ănă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mediul înconjură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feso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u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oordonator utili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z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formularul disponibil online, pe contul personal (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portează activit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pentru anun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rea acestor activită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a rezultatelor ob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  <a:ea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u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înscrierea în concursu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pune po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entru ediția următoare a proiectulu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03280" y="260280"/>
            <a:ext cx="735984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municare social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55640" y="1413000"/>
            <a:ext cx="748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ina de Facebook poate fi folos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ntru comunicarea activi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or Patrulei de Reciclare locale a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institu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le participant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e 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 RZ/RL pr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un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a kg colectat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pre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area de poze cu membrii Patrulei de Reciclar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a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u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914400" y="3751200"/>
            <a:ext cx="4449600" cy="25002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5508720" y="56624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ebook.com/Patrula de Reciclare –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4.70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Diplom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133" name="Picture 4" descr="C:\Gabi\RoRec\Proiecte\Patrula de reciclare\Ghid de lucru\Anexe\14_Diplome\14.1_Certificat de membru.jpg"/>
          <p:cNvPicPr/>
          <p:nvPr/>
        </p:nvPicPr>
        <p:blipFill>
          <a:blip r:embed="rId1"/>
          <a:stretch/>
        </p:blipFill>
        <p:spPr>
          <a:xfrm>
            <a:off x="684360" y="1413000"/>
            <a:ext cx="3671640" cy="2376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C:\Gabi\RoRec\Proiecte\Patrula de reciclare\Ghid de lucru\Anexe\14_Diplome\14.4_Special - cea mai activa institutie.jpg"/>
          <p:cNvPicPr/>
          <p:nvPr/>
        </p:nvPicPr>
        <p:blipFill>
          <a:blip r:embed="rId2"/>
          <a:stretch/>
        </p:blipFill>
        <p:spPr>
          <a:xfrm>
            <a:off x="4572000" y="1413000"/>
            <a:ext cx="3816360" cy="2376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C:\Gabi\RoRec\Proiecte\Patrula de reciclare\Ghid de lucru\Anexe\14_Diplome\14.3_Diploma coordonator.jpg"/>
          <p:cNvPicPr/>
          <p:nvPr/>
        </p:nvPicPr>
        <p:blipFill>
          <a:blip r:embed="rId3"/>
          <a:stretch/>
        </p:blipFill>
        <p:spPr>
          <a:xfrm>
            <a:off x="684360" y="4005360"/>
            <a:ext cx="3743280" cy="2087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:\Gabi\RoRec\Proiecte\Patrula de reciclare\Ghid de lucru\Anexe\14_Diplome\14.5_Special - cea mai creativa.jpg"/>
          <p:cNvPicPr/>
          <p:nvPr/>
        </p:nvPicPr>
        <p:blipFill>
          <a:blip r:embed="rId4"/>
          <a:stretch/>
        </p:blipFill>
        <p:spPr>
          <a:xfrm>
            <a:off x="4643280" y="4005360"/>
            <a:ext cx="37450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upa incheier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stionar de feed-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ivind proiectul pilot – puncte slabe, puncte forte, recomandăr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– PC, RZ/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iza feed-back-ulu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e către organiz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re proiect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și eventual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mbunătăţiri/modificări pentru ediţia următo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ă încheierea programului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turile de colect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ămân în instituţiile participante şi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s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încurajată continuarea activităţilor de colect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rezentantul zonal RoRec r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â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 la dispozi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a institu</a:t>
            </a:r>
            <a:r>
              <a:rPr b="0" lang="ro-RO" sz="17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ilor pentru golirea containerelor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e este?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iect realizat de RoRec în parteneriat cu Primăriile şi Inspectoratele Şcolare Judeţen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di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etele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 în care primăriile şi Asociaţia RoRec colaborează prin implementarea de campanii de colectare a deşeurilor de echipamente electrice şi electronice (DEEE) şi în vederea creării unei infrastructuri coerente de colectare a acestui tip de deşeuri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Program educaţional de protecţie a mediului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, centrat pe </a:t>
            </a:r>
            <a:r>
              <a:rPr b="1" lang="vi-VN" sz="2000" spc="-1" strike="noStrike">
                <a:solidFill>
                  <a:srgbClr val="000000"/>
                </a:solidFill>
                <a:latin typeface="Arial"/>
              </a:rPr>
              <a:t>colectarea şi reciclarea DEEE </a:t>
            </a:r>
            <a:r>
              <a:rPr b="0" lang="vi-VN" sz="2000" spc="-1" strike="noStrike">
                <a:solidFill>
                  <a:srgbClr val="000000"/>
                </a:solidFill>
                <a:latin typeface="Arial"/>
              </a:rPr>
              <a:t>în unităţile de învăţământ, pentru a contribui la atingerea obiectivelor cantitative impuse de normele europene, anume de 4 kilograme/locuitor 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biectiv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Informare/conștientizare –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ajută</a:t>
            </a: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elevii să înţeleagă unele dintre cauzele poluării mediului şi să conştientizeze faptul că reducerea acestora depinde de implicarea fiecăruia.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Educare -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prin încurajarea obiceiului de colectare selectivă a deşeurilor de echipamente electrice si electronice (DEEE). Copiii pot deveni ambasadori ai unui mesaj ecologic şi modele pentru cei din jur, educându-și părinţii în sensul unei atitudini ecologice responsab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Arial"/>
              </a:rPr>
              <a:t>Colectare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de echipamente mici, baterii și acumulatori portabili, lămpi și neoane în limita minimă de 1kg/elev înscris în progra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92" name="Picture 3" descr="Logo_v5-03-01.jpg"/>
          <p:cNvPicPr/>
          <p:nvPr/>
        </p:nvPicPr>
        <p:blipFill>
          <a:blip r:embed="rId1"/>
          <a:stretch/>
        </p:blipFill>
        <p:spPr>
          <a:xfrm>
            <a:off x="324000" y="1916280"/>
            <a:ext cx="4170240" cy="3957480"/>
          </a:xfrm>
          <a:prstGeom prst="rect">
            <a:avLst/>
          </a:prstGeom>
          <a:ln w="0">
            <a:noFill/>
          </a:ln>
        </p:spPr>
      </p:pic>
      <p:sp>
        <p:nvSpPr>
          <p:cNvPr id="93" name="TextBox 7"/>
          <p:cNvSpPr/>
          <p:nvPr/>
        </p:nvSpPr>
        <p:spPr>
          <a:xfrm>
            <a:off x="4140360" y="1700280"/>
            <a:ext cx="453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sa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mijlocul lun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lie 2011,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76 de institu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i educa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onale din Tim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avut un profesor coordonator r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unz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 de derularea proiec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22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00 de copii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ecar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l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 fost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curajat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lecteze DEEE, baterii, neoan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curi prin intermediul containerelor puse la dispozi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 de Ro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finalizat pe 1 Iu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Content Placeholder 3" descr="DSC07765.JPG"/>
          <p:cNvPicPr/>
          <p:nvPr/>
        </p:nvPicPr>
        <p:blipFill>
          <a:blip r:embed="rId1"/>
          <a:stretch/>
        </p:blipFill>
        <p:spPr>
          <a:xfrm>
            <a:off x="457200" y="1295280"/>
            <a:ext cx="3600360" cy="202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IMG_0946.JPG"/>
          <p:cNvPicPr/>
          <p:nvPr/>
        </p:nvPicPr>
        <p:blipFill>
          <a:blip r:embed="rId2"/>
          <a:stretch/>
        </p:blipFill>
        <p:spPr>
          <a:xfrm>
            <a:off x="4343400" y="1219320"/>
            <a:ext cx="4216320" cy="3162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moto_0083.jpg"/>
          <p:cNvPicPr/>
          <p:nvPr/>
        </p:nvPicPr>
        <p:blipFill>
          <a:blip r:embed="rId3"/>
          <a:stretch/>
        </p:blipFill>
        <p:spPr>
          <a:xfrm>
            <a:off x="457200" y="3505320"/>
            <a:ext cx="3774960" cy="28191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DSCF5572.JPG"/>
          <p:cNvPicPr/>
          <p:nvPr/>
        </p:nvPicPr>
        <p:blipFill>
          <a:blip r:embed="rId4"/>
          <a:stretch/>
        </p:blipFill>
        <p:spPr>
          <a:xfrm>
            <a:off x="4343400" y="4572000"/>
            <a:ext cx="1930320" cy="14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F5569.JPG"/>
          <p:cNvPicPr/>
          <p:nvPr/>
        </p:nvPicPr>
        <p:blipFill>
          <a:blip r:embed="rId5"/>
          <a:stretch/>
        </p:blipFill>
        <p:spPr>
          <a:xfrm>
            <a:off x="6477120" y="4572000"/>
            <a:ext cx="1981080" cy="1486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4114800" y="1571760"/>
            <a:ext cx="441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fost oferite 10 premii celor mai activ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e </a:t>
            </a:r>
            <a:r>
              <a:rPr b="0" lang="ro-RO" sz="1800" spc="-1" strike="noStrike">
                <a:solidFill>
                  <a:srgbClr val="000000"/>
                </a:solidFill>
                <a:latin typeface="Arial"/>
              </a:rPr>
              <a:t>1.300 k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EE colectate la finalul pilotul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P1090802.JPG"/>
          <p:cNvPicPr/>
          <p:nvPr/>
        </p:nvPicPr>
        <p:blipFill>
          <a:blip r:embed="rId1"/>
          <a:stretch/>
        </p:blipFill>
        <p:spPr>
          <a:xfrm>
            <a:off x="4641840" y="3352680"/>
            <a:ext cx="3587760" cy="2691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DSC07114.JPG"/>
          <p:cNvPicPr/>
          <p:nvPr/>
        </p:nvPicPr>
        <p:blipFill>
          <a:blip r:embed="rId2"/>
          <a:stretch/>
        </p:blipFill>
        <p:spPr>
          <a:xfrm>
            <a:off x="533520" y="1676520"/>
            <a:ext cx="3314520" cy="4419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Pilot 2011 – Mun. Tim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oara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Edi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ț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ie an 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ș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olar 2011- 2012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684360" y="1689120"/>
            <a:ext cx="7775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ioada desf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ă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embrie 2011 – 31 mai 2012 cu festivitatea de premie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cursul lunii iuni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 jude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 particip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itu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are, pes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.3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pii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c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 loc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4"/>
          <p:cNvSpPr/>
          <p:nvPr/>
        </p:nvSpPr>
        <p:spPr>
          <a:xfrm>
            <a:off x="684360" y="1341360"/>
            <a:ext cx="7704000" cy="46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ctor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or – RoRe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eneri – primăriile locale și inspectoratele județe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  <a:ea typeface="Arial"/>
              </a:rPr>
              <a:t>Participanți - toate instituţiile de învăţământ preşcolar, şcolar şi liceal din judeţele/oraşele în care organizatorul a încheiat parteneriate cu Inspectoratul Școlar Judeţean şi Primăria aferent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i care s-au inscris in proi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Aria de desfășurare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 2012: 7 jude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str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ț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, C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a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, Hunedoara, Teleorman, Tim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ș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Tulcea, Praho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extindere în vi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Perioada de desfășurare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ta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anu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șco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Aspecte organizatorice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3"/>
          <p:cNvSpPr/>
          <p:nvPr/>
        </p:nvSpPr>
        <p:spPr>
          <a:xfrm>
            <a:off x="684360" y="1197000"/>
            <a:ext cx="80643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i –august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bilirea parteneriatel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cu autorităţile locale şi cu Inspectoratele Şcolare Judeţene și semnarea protocolului de colaborare tripartit;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eptembrie - Octombrie 20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formarea unităţilor de învăţămâ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localităţile intrate în proiec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primării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 inspectoratel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emnarea profesorului coordonator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 (PC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l programului din fiecare instituție de învățământ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împuternicir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e 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rector instituţie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imisă către organizator prin fax sau e-mail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P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;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zentarea proiectului către profesorii coordonato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din instituţiile care au deci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  <a:ea typeface="Arial"/>
              </a:rPr>
              <a:t>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scrierea în proiec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00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Mecanica p</a:t>
            </a:r>
            <a:r>
              <a:rPr b="0" lang="ro-RO" sz="3200" spc="-1" strike="noStrike">
                <a:solidFill>
                  <a:srgbClr val="008000"/>
                </a:solidFill>
                <a:latin typeface="Arial"/>
              </a:rPr>
              <a:t>roiectului pe scurt</a:t>
            </a: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0:08:18Z</dcterms:created>
  <dc:creator>gabriel</dc:creator>
  <dc:description/>
  <dc:language>en-US</dc:language>
  <cp:lastModifiedBy>Cristina</cp:lastModifiedBy>
  <dcterms:modified xsi:type="dcterms:W3CDTF">2013-01-30T10:23:30Z</dcterms:modified>
  <cp:revision>135</cp:revision>
  <dc:subject/>
  <dc:title>Slide 1</dc:title>
</cp:coreProperties>
</file>